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7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887A-455A-4428-A409-D266CD373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C344-258B-4D15-BB6C-64A7224E9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D402-4FB7-4D54-8A87-1617DD6CF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D56D-25B7-48E1-93F5-78B1A56C5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3EBD1-EBFC-4BF4-84FC-F3F4310CA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02751-8C67-40E8-892D-503381BA4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66820-2037-4A34-946F-67D8A31EC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8ACFB-C217-4F69-A8A3-3A1AD654F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890D9-9DD8-46A0-8534-FE25EBC42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7BC1A-B227-4B29-883E-626B6D4F9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E3824-FD40-48BF-A00F-16104FF1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85BE-1287-4AE6-BDFA-00CBA082E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C5392-2E4F-44AF-A4A5-A3D97962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F782C-2EB5-4A97-8211-3F44EABA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927DA-9331-46D7-AA92-53BEB6F1F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40FFD-03BE-4699-A18F-924BC6875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44AC7-E204-4077-8852-204DDD9DC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3C43B-63E1-4F97-9320-D37C410B8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530A7-CEE2-47BA-B27E-7EEFF3555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E360F-4ABE-4CAF-9935-A52F1CDB3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F3EFB-4E86-44E1-BFC5-15293F93A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6B039-1039-4EE2-9E49-2D3224962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A0CB-9F78-4A49-AC54-DB8193405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301F6-796F-40EA-BA79-E1BFBDA4B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CC5FC-251C-4CD6-8A9C-330A8058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19766-8B3A-411A-891A-0D5A9A4A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5083B-FF7B-424E-BDEA-E8938161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47223-8CD3-4F5B-9C22-19961E932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B9721-A921-438F-92EE-350C8D05C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34DE9-3FDC-4F6E-924B-9CF1B2987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C5974-7110-415C-8AE5-0CFFBAF92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697CF-8FF9-46DF-BB00-5E7E78D1C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F537E-6538-4439-9A4A-2FB29F000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20A5-1D25-4187-AF32-1FE11D7E6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3BA56-44E4-417E-AE4D-5B46EA5D7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E71C2-5873-48D1-9AA1-73591A307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4E614-B863-4407-AA53-A1FCE2A61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41B33-E2E4-40D2-80C6-A61725AC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83034-EBBA-4DCB-988C-BBDFBF22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0EEEB-F3A1-4D96-B2F9-5765F679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48B0C-72BF-4B82-B944-EA95D181D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12AAD-67FE-4586-A1A0-CAA05A49D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46D47-B355-4692-BBF3-7A355E0F2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7A29-E03B-4DFD-B7E3-C8DB33537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699E-73C8-4888-996E-6E3D04D18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6E96-735B-4578-8FA7-85B576BC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B763-CDE2-4C6B-9B8D-597C9C65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CD04-3721-4129-98CD-3C16A22D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28C2FC-7E72-4F5F-976C-92D58B998826}" type="datetime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C20A76-3A7D-4C90-BDD1-F3FD7672583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833AD2-554D-428C-A789-4DCE6A6CC783}" type="datetime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2C7A82-9B21-49B6-8087-223C25785B6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E4D966-7CEE-4CE2-9C6A-15D86BB0391F}" type="datetime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B8F934-21FF-4FFD-AC54-6BEA5B41E03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F87814-C744-40A9-B139-505BDF95B956}" type="datetime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DF1784-5482-4072-BE4B-E312AEBF35F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VxacxShp3LY" TargetMode="External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0Yov6aCqt8w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uite101.com/content/why-overfishing-matters-a146870#ixzz1Da6WCvPq" TargetMode="External"/><Relationship Id="rId3" Type="http://schemas.openxmlformats.org/officeDocument/2006/relationships/hyperlink" Target="http://www.suite101.com/content/why-overfishing-matters-a146870#ixzz1Da6WCvPq" TargetMode="External"/><Relationship Id="rId4" Type="http://schemas.openxmlformats.org/officeDocument/2006/relationships/hyperlink" Target="http://www.suite101.com/content/why-overfishing-matters-a146870#ixzz1Da6WCvPq" TargetMode="External"/><Relationship Id="rId5" Type="http://schemas.openxmlformats.org/officeDocument/2006/relationships/hyperlink" Target="http://www.grinningplanet.com/2005/06-07/overfishing-article.htm" TargetMode="External"/><Relationship Id="rId6" Type="http://schemas.openxmlformats.org/officeDocument/2006/relationships/hyperlink" Target="http://www.grinningplanet.com/2005/06-07/overfishing-article.htm" TargetMode="External"/><Relationship Id="rId7" Type="http://schemas.openxmlformats.org/officeDocument/2006/relationships/hyperlink" Target="http://www.elcamino.edu/faculty/tnoyes/Readings/13CR.pdf" TargetMode="External"/><Relationship Id="rId8" Type="http://schemas.openxmlformats.org/officeDocument/2006/relationships/hyperlink" Target="http://www.elcamino.edu/faculty/tnoyes/Readings/13CR.pdf" TargetMode="External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2"/>
          <a:stretch/>
        </p:blipFill>
        <p:spPr>
          <a:xfrm>
            <a:off x="530280" y="835200"/>
            <a:ext cx="7858080" cy="13474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http://www.coral.org/files/images/800px-Nwhi_-_French_Frigate_Shoals_reef_-_many_fish.jpg"/>
          <p:cNvPicPr/>
          <p:nvPr/>
        </p:nvPicPr>
        <p:blipFill>
          <a:blip r:embed="rId3"/>
          <a:stretch/>
        </p:blipFill>
        <p:spPr>
          <a:xfrm>
            <a:off x="1447920" y="2438280"/>
            <a:ext cx="6400800" cy="4267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Overfishing- the consequences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4292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http://www.youtube.com/watch?v=VxacxShp3L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2" name="Picture 3" descr=""/>
          <p:cNvPicPr/>
          <p:nvPr/>
        </p:nvPicPr>
        <p:blipFill>
          <a:blip r:embed="rId3"/>
          <a:stretch/>
        </p:blipFill>
        <p:spPr>
          <a:xfrm>
            <a:off x="1752480" y="2558880"/>
            <a:ext cx="5715000" cy="4299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Solutions for overfishing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23619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270000" indent="-270000" algn="ctr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ea typeface="ＭＳ Ｐゴシック"/>
                <a:hlinkClick r:id="rId2"/>
              </a:rPr>
              <a:t>http://www.youtube.com/watch?v=0Yov6aCqt8w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 algn="ctr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Regulation is needed to prevent or limit bottom trawling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Limiting the number of days a haul can set off per month could also be extremely helpful in allowing fish stocks to recover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Get educated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270000" indent="-27000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Learn about the kind of fish you purchas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270000" indent="-27000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Spread the word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270000" indent="-2700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270000" indent="-27000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cover dir="ld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Resources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2d700"/>
                </a:solidFill>
                <a:uFillTx/>
                <a:latin typeface="Arial Black"/>
                <a:hlinkClick r:id="rId2"/>
              </a:rPr>
              <a:t>Why Overfishing Matters- </a:t>
            </a:r>
            <a:r>
              <a:rPr b="0" lang="en-US" sz="2000" spc="-1" strike="noStrike" u="sng">
                <a:solidFill>
                  <a:srgbClr val="e2d700"/>
                </a:solidFill>
                <a:uFillTx/>
                <a:latin typeface="Arial Black"/>
                <a:hlinkClick r:id="rId3"/>
              </a:rPr>
              <a:t>Why Overfishing Matters: How Lost Ocean Life Affects the World </a:t>
            </a:r>
            <a:r>
              <a:rPr b="0" lang="en-US" sz="2000" spc="-1" strike="noStrike" u="sng">
                <a:solidFill>
                  <a:srgbClr val="e2d700"/>
                </a:solidFill>
                <a:uFillTx/>
                <a:latin typeface="Arial Black"/>
                <a:hlinkClick r:id="rId4"/>
              </a:rPr>
              <a:t>http://www.suite101.com/content/why-overfishing-matters-a146870#ixzz1Da6WCvPq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2d700"/>
                </a:solidFill>
                <a:uFillTx/>
                <a:latin typeface="Arial Black"/>
                <a:hlinkClick r:id="rId5"/>
              </a:rPr>
              <a:t>Overfishing-</a:t>
            </a:r>
            <a:r>
              <a:rPr b="0" lang="en-US" sz="2000" spc="-1" strike="noStrike" u="sng">
                <a:solidFill>
                  <a:srgbClr val="e2d700"/>
                </a:solidFill>
                <a:uFillTx/>
                <a:latin typeface="Arial Black"/>
                <a:hlinkClick r:id="rId6"/>
              </a:rPr>
              <a:t> http://www.grinningplanet.com/2005/06-07/overfishing-article.htm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2d700"/>
                </a:solidFill>
                <a:uFillTx/>
                <a:latin typeface="Arial Black"/>
                <a:hlinkClick r:id="rId7"/>
              </a:rPr>
              <a:t>Overfishing-</a:t>
            </a:r>
            <a:r>
              <a:rPr b="0" lang="en-US" sz="2000" spc="-1" strike="noStrike" u="sng">
                <a:solidFill>
                  <a:srgbClr val="e2d700"/>
                </a:solidFill>
                <a:uFillTx/>
                <a:latin typeface="Arial Black"/>
                <a:hlinkClick r:id="rId8"/>
              </a:rPr>
              <a:t> http://www.elcamino.edu/faculty/tnoyes/Readings/13CR.pdf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Global warming issues &amp; Human impact on the ocean- 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http://www.divesitedirectory.com/global_warming_coral_effects.htm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ver fishing- 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http://www.ypte.org.uk/environmental/over-fishing/29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Arial"/>
              </a:rPr>
              <a:t>Over fishing-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http://www.scribd.com/doc/6592367/Over-Fishing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What is overfishing?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2133360"/>
            <a:ext cx="8229600" cy="16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verfishing is taking so many fish from the ocean that there are not enough left to reproduce and replenish the population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9" name="Picture 5" descr="http://assets.panda.org/img/overfish_img1_col2b_233392.jpg"/>
          <p:cNvPicPr/>
          <p:nvPr/>
        </p:nvPicPr>
        <p:blipFill>
          <a:blip r:embed="rId2"/>
          <a:stretch/>
        </p:blipFill>
        <p:spPr>
          <a:xfrm>
            <a:off x="457200" y="3556080"/>
            <a:ext cx="4572000" cy="28861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http://t1.gstatic.com/images?q=tbn:ANd9GcT41H3o2HBfmnxYaNQwsII2W2yBkKQ2TWtJFb7z0R0O1D35xBRMhQ&amp;t=1"/>
          <p:cNvPicPr/>
          <p:nvPr/>
        </p:nvPicPr>
        <p:blipFill>
          <a:blip r:embed="rId3"/>
          <a:stretch/>
        </p:blipFill>
        <p:spPr>
          <a:xfrm>
            <a:off x="5524560" y="3581280"/>
            <a:ext cx="3162240" cy="2266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Destructive fishing techniques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Huge fishing fleets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: (when combined are two times larger than our earth can sustain) scoop up huge quantities of species at onc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Use technology and even airplanes to find the fish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Bycatch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: the capture of marine animals that are unwanted and are thrown back after capture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Normally, most of the discards can be assumed not to survive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auses of Overfishing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The numbers of fish species have been reduced by the use of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nstantia"/>
              </a:rPr>
              <a:t>high-tech fishing equipment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uch as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Factory ships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Radar technology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Longline fishing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Bottom trawling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Pole and line method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Use of poison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Blast fishing/ use of explosive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6" descr="http://www.mareud.com/images_unknown/Horsun-01.jpg"/>
          <p:cNvPicPr/>
          <p:nvPr/>
        </p:nvPicPr>
        <p:blipFill>
          <a:blip r:embed="rId2"/>
          <a:stretch/>
        </p:blipFill>
        <p:spPr>
          <a:xfrm>
            <a:off x="144360" y="304920"/>
            <a:ext cx="4046760" cy="2692440"/>
          </a:xfrm>
          <a:prstGeom prst="rect">
            <a:avLst/>
          </a:prstGeom>
          <a:ln w="0">
            <a:noFill/>
          </a:ln>
        </p:spPr>
      </p:pic>
      <p:sp>
        <p:nvSpPr>
          <p:cNvPr id="206" name="TextBox 6"/>
          <p:cNvSpPr/>
          <p:nvPr/>
        </p:nvSpPr>
        <p:spPr>
          <a:xfrm>
            <a:off x="914400" y="299736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ctory shi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8" descr="http://x-journals.com/wp-content/uploads/2009/05/new-antarctic-seabed-sonar.jpg"/>
          <p:cNvPicPr/>
          <p:nvPr/>
        </p:nvPicPr>
        <p:blipFill>
          <a:blip r:embed="rId3"/>
          <a:stretch/>
        </p:blipFill>
        <p:spPr>
          <a:xfrm>
            <a:off x="4724280" y="304920"/>
            <a:ext cx="3810240" cy="3060720"/>
          </a:xfrm>
          <a:prstGeom prst="rect">
            <a:avLst/>
          </a:prstGeom>
          <a:ln w="0">
            <a:noFill/>
          </a:ln>
        </p:spPr>
      </p:pic>
      <p:sp>
        <p:nvSpPr>
          <p:cNvPr id="208" name="TextBox 9"/>
          <p:cNvSpPr/>
          <p:nvPr/>
        </p:nvSpPr>
        <p:spPr>
          <a:xfrm>
            <a:off x="5486400" y="336564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dar techn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Picture 10" descr="http://www.sustainablesushi.net/wp-content/uploads/2010/04/longline-fishing1.jpg"/>
          <p:cNvPicPr/>
          <p:nvPr/>
        </p:nvPicPr>
        <p:blipFill>
          <a:blip r:embed="rId4"/>
          <a:stretch/>
        </p:blipFill>
        <p:spPr>
          <a:xfrm>
            <a:off x="144360" y="3365640"/>
            <a:ext cx="4046760" cy="3078000"/>
          </a:xfrm>
          <a:prstGeom prst="rect">
            <a:avLst/>
          </a:prstGeom>
          <a:ln w="0">
            <a:noFill/>
          </a:ln>
        </p:spPr>
      </p:pic>
      <p:sp>
        <p:nvSpPr>
          <p:cNvPr id="210" name="TextBox 11"/>
          <p:cNvSpPr/>
          <p:nvPr/>
        </p:nvSpPr>
        <p:spPr>
          <a:xfrm>
            <a:off x="1066680" y="644364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ngline fish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12" descr="http://t2.gstatic.com/images?q=tbn:ANd9GcRjH64G0nQMoSFQH8gjwiXJAdDjs40mxCQO-coME0PhBX0Ii6Yf6A&amp;t=1"/>
          <p:cNvPicPr/>
          <p:nvPr/>
        </p:nvPicPr>
        <p:blipFill>
          <a:blip r:embed="rId5"/>
          <a:stretch/>
        </p:blipFill>
        <p:spPr>
          <a:xfrm>
            <a:off x="4419720" y="3735360"/>
            <a:ext cx="4467240" cy="2509920"/>
          </a:xfrm>
          <a:prstGeom prst="rect">
            <a:avLst/>
          </a:prstGeom>
          <a:ln w="0">
            <a:noFill/>
          </a:ln>
        </p:spPr>
      </p:pic>
      <p:sp>
        <p:nvSpPr>
          <p:cNvPr id="212" name="TextBox 13"/>
          <p:cNvSpPr/>
          <p:nvPr/>
        </p:nvSpPr>
        <p:spPr>
          <a:xfrm>
            <a:off x="5715000" y="6259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ttom traw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http://www.greenpeace.org/new-zealand/ReSizes/OriginalWatermarked/Global/new-zealand/P3/photos/oceans/2010/GP01PJV_layout.jpg"/>
          <p:cNvPicPr/>
          <p:nvPr/>
        </p:nvPicPr>
        <p:blipFill>
          <a:blip r:embed="rId2"/>
          <a:stretch/>
        </p:blipFill>
        <p:spPr>
          <a:xfrm>
            <a:off x="304920" y="152280"/>
            <a:ext cx="4740120" cy="2828880"/>
          </a:xfrm>
          <a:prstGeom prst="rect">
            <a:avLst/>
          </a:prstGeom>
          <a:ln w="0">
            <a:noFill/>
          </a:ln>
        </p:spPr>
      </p:pic>
      <p:sp>
        <p:nvSpPr>
          <p:cNvPr id="214" name="TextBox 2"/>
          <p:cNvSpPr/>
          <p:nvPr/>
        </p:nvSpPr>
        <p:spPr>
          <a:xfrm>
            <a:off x="1295280" y="302724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e and line fish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5" descr=""/>
          <p:cNvPicPr/>
          <p:nvPr/>
        </p:nvPicPr>
        <p:blipFill>
          <a:blip r:embed="rId3"/>
          <a:stretch/>
        </p:blipFill>
        <p:spPr>
          <a:xfrm>
            <a:off x="5248440" y="380880"/>
            <a:ext cx="3895560" cy="2934000"/>
          </a:xfrm>
          <a:prstGeom prst="rect">
            <a:avLst/>
          </a:prstGeom>
          <a:ln w="0">
            <a:noFill/>
          </a:ln>
        </p:spPr>
      </p:pic>
      <p:sp>
        <p:nvSpPr>
          <p:cNvPr id="216" name="TextBox 5"/>
          <p:cNvSpPr/>
          <p:nvPr/>
        </p:nvSpPr>
        <p:spPr>
          <a:xfrm>
            <a:off x="6019920" y="33148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is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4"/>
          <a:stretch/>
        </p:blipFill>
        <p:spPr>
          <a:xfrm>
            <a:off x="1295280" y="3397320"/>
            <a:ext cx="5045040" cy="31287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7"/>
          <p:cNvSpPr/>
          <p:nvPr/>
        </p:nvSpPr>
        <p:spPr>
          <a:xfrm>
            <a:off x="3048120" y="6477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last fish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Why is overfishing a problem?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724280" y="3733920"/>
            <a:ext cx="419112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52% of fish stocks are fully exploited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20% are moderately exploited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17% are overexploited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7% are depleted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1% is recovering from depletion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1" name="TextBox 3"/>
          <p:cNvSpPr/>
          <p:nvPr/>
        </p:nvSpPr>
        <p:spPr>
          <a:xfrm>
            <a:off x="457200" y="1905120"/>
            <a:ext cx="563868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∙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ceans are at risk of collap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∙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Risk of losing a valuable food sour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5" descr="http://www.accu-techrchardware.com/sitebuilder/images/ocean_water_background_3-713x363.jpg"/>
          <p:cNvPicPr/>
          <p:nvPr/>
        </p:nvPicPr>
        <p:blipFill>
          <a:blip r:embed="rId2"/>
          <a:stretch/>
        </p:blipFill>
        <p:spPr>
          <a:xfrm>
            <a:off x="144360" y="3365640"/>
            <a:ext cx="4579920" cy="23302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http://www.hasonraja.co.uk/images/fish_food_photo_03.jpg"/>
          <p:cNvPicPr/>
          <p:nvPr/>
        </p:nvPicPr>
        <p:blipFill>
          <a:blip r:embed="rId3"/>
          <a:stretch/>
        </p:blipFill>
        <p:spPr>
          <a:xfrm>
            <a:off x="5854680" y="1447920"/>
            <a:ext cx="2832120" cy="2171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Endangered fisheries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ome of the species most threatened by overfishing are: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Atlantic Halibut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Monkfish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Swordfish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Tropical shrimp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Blue Fin Tuna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Other animals not usually associated with the seafood industry are also affected: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Turtle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Dolphin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Whale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All shark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strips dir="lu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900" fill="hold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900" fill="hold"/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00" fill="hold"/>
                                        <p:tgtEl>
                                          <p:spTgt spid="2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2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900" fill="hold"/>
                                        <p:tgtEl>
                                          <p:spTgt spid="2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Effects of overfishing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8288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lnSpc>
                <a:spcPct val="6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Overfishing disrupts the natural balance ecosystems attain over thousands of years of evolution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lnSpc>
                <a:spcPct val="6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Entire food webs and chains can collaps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lnSpc>
                <a:spcPct val="6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It endangers the fish population which means our food supply is at risk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lnSpc>
                <a:spcPct val="6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457200" y="3475080"/>
            <a:ext cx="8534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089ca3"/>
                </a:solidFill>
                <a:latin typeface="Calibri"/>
              </a:rPr>
              <a:t>Why does this keep happening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Box 6"/>
          <p:cNvSpPr/>
          <p:nvPr/>
        </p:nvSpPr>
        <p:spPr>
          <a:xfrm>
            <a:off x="457200" y="48006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Because of the high demand for fish, people are willing to pay a lot of money, so fishermen will do anything for their many customers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9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9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9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5:41:44Z</dcterms:created>
  <dc:creator>PA Department of Education Classrooms for the Future</dc:creator>
  <dc:description/>
  <dc:language>en-US</dc:language>
  <cp:lastModifiedBy>PA Department of Education Classrooms for the Future</cp:lastModifiedBy>
  <dcterms:modified xsi:type="dcterms:W3CDTF">2011-02-22T16:12:21Z</dcterms:modified>
  <cp:revision>58</cp:revision>
  <dc:subject/>
  <dc:title>overfishing</dc:title>
</cp:coreProperties>
</file>